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830-C6E6-44CA-9668-623F05D1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6E6-A2B2-469D-9C3E-68042DE0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446-0AA4-4996-8B81-3E139D63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628-D5B5-4461-897D-73649B7E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5FCA-2B34-4BB5-9070-26CB296A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A3F-1E7F-4DAC-A612-0C0BF48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2CD-0855-4F63-A16B-238A4E46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4CF6-6792-444C-A9AE-F242431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6542-5FA5-4CE3-9FF6-57504C95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6133-8EC2-4FF9-AA2D-32834097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8325-93D2-4C26-82A1-241B4FF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568-28AE-4959-B748-2603118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5BA8-93AD-4BCD-8F48-9D0D980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61B8-C1DB-4790-ADF4-915A9656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430-4C79-4E19-930C-31D3E33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820B-D1ED-4905-8252-F8CBC24E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9425-6FA3-4FE7-87D6-3BCE0E93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675-670C-44CF-8C82-E0F05954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182-B629-49EA-A970-F4A6B588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19D-795E-49FD-9B4E-FD360695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B0F-36CD-4513-B303-5F88C86A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D30-D78D-4CB7-BEE5-4C5012D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805-28CE-4D0E-8008-84CB1CD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E22-6152-41A6-998B-720F282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4E6-561F-4666-A9CB-54E4FDDDB5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8725-4102-424A-BB96-DEBA8448CE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égtechnika, klí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Léghűtés (félklimatizálá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risslevegő betáplálással egyidejűleg, vagy attól függetlenül a helyiség levegőjének hűtését biztosít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ípusok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blak „klíma” (friss levegő + hűté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Split „klíma” (csak hűté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obil „klíma” (csak hűté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Fan-coil (hűtés + fűté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2 csö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4 csö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blak klíma, mobil klí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090960" cy="252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03640" y="1989000"/>
            <a:ext cx="2953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Split klí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38560" y="1752480"/>
            <a:ext cx="45385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Fan-co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86000" y="2376360"/>
            <a:ext cx="2286000" cy="301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35680" y="1752480"/>
            <a:ext cx="313848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35560" y="3975120"/>
            <a:ext cx="25401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ödtelenít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Feladat: a levegő relatív nedvességtartalmát egy meghatározott érték alatt tarta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Helyi ködteleníté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gőzt kibocsátó berendezés közvetlen környezetéből való légelszíváss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Hideg felületen történő lecsapatással és a víz elvezetésével. (ipari technológi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Általános ködteleníté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Intenzív szellőztetés, higítás. (mosodák, konyhák, uszodák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limatizál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z ember hőérzete függ a levegő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hőmérsékletétő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nedvességtartalmátó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sebességétő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 sugárzási szinttől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ivel a szervezetében termelt hőt (12-465 W, átlagosan 116 W) a környezetének konvekcióval (párolgással: 31-102 g/h), illetve sugárzással tudja leadni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 teljes klimatizálás feladata az emberi „kellemes hőérzet” biztosítása a  levegő állapotjellemzőinek beállításáv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Léghőmérséklet: 16-25 °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Relatív nedvességtartalmától: 25-73 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Levegősebesség: 0,2-0,3 m/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A mesterséges szellőző rendszer kialakítása teljes klimatizálás eseté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14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. légrác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. szívóvezeték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. keverőkamr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4. légszűrő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. előfűtő/hűtő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6. mosókamr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7. utófűtő/hűtő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8. ventilá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. nyomó légcsatorna hálóz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. befúvó szerkez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1. elszívó szerkez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2. elszívó légcsatorna hálóz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3. ventilá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4. visszakeverő légcsatorna hálóz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5. elvezető légcsatorna hálóz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6. kifúvófej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contrast="18000"/>
          </a:blip>
          <a:srcRect l="16547" t="6814" r="11892" b="50634"/>
          <a:stretch/>
        </p:blipFill>
        <p:spPr>
          <a:xfrm>
            <a:off x="3708360" y="2205000"/>
            <a:ext cx="5435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0647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űzvéde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űzszakasz határon áthaladó légcsatorna hálózat tűzszakaszolása (tűzcsappantyú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Légcsatorna hálózatban szikraérzékelő, hősebességérzékelő, oltórendszer elhelyezé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Hő- és füstelvezetés (menekülés, oltás biztosítás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Csarnok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Belső közlekedő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Lépcsőház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ellőzé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vegő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8 % Nitrogé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1 % Oxigé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drogé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mesgázo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zéndiox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zennyezőanya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í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35636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601560"/>
            <a:ext cx="8785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dves leveg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levegő természetes esetben tartalmaz vízgőz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ítési nedvességtartalom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z a vízmennyiség, amelyet a levegő az adott hőmérsékleten, illetve nyomáson – kicsapódás nélkül – magába képes fogadni. [g/g]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ív nedvességtartalom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telítési nedvességtartalom és a tényleges nedvességtartalom hányadosa [%]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zellőztetési igény meghatározá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zellőztetés célja: egyfajta „nem kívánatos jelenség” (káros koncentráció) eltávolítása a helyiségbő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éndioxid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őz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áz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ő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ennyeződés st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káros koncentráció maximális értékét rendeletek írják elő, illetve az adott technológiai folyamat határozza me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égtechnikai rendszer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Szellőzés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: Cél: kizárólag a káros koncentrációban jelenlevő anyagok eltávolítása. (az ember frisslevegő igénye 25 m</a:t>
            </a:r>
            <a:r>
              <a:rPr b="0" lang="hu-HU" sz="21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/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Légfűtés / léghűtés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: A frisslevegő betáplálás mellett, vagy attól függetlenül részben, vagy egészben a hőszükségletet, illetve a hűtést is biztosítj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Ködtelenítés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: A levegőben lévő káros mennyiségű nedvességtartalom eltávolítás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Klimatizálás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: A levegő összes állapotjellemzőjének (hőmérséklet, páratartalom, nyomás stb.) beállítására szolgá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mészetes szellőz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természetes szellőzéssel kizárólag a helyiség káros anyag koncentrációjának megemelkedését tudjuk megakadályozn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vegő mozgását a hideg-meleg levegő fajsúlykülönbsége, illetve a szél nyomóereje biztosít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űszaki megoldáso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ak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tőszellőző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sterséges szellőz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levegő mozgásához szükséges nyomáskülönbséget gépi úton (ventilátorokkal) biztosítjá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mpressziós té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helyiség légnyomása nagyobb, mint a környezetének légnyomás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ressziós té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helyiség légnyomása kisebb, mint a környezetének légnyomás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égfűt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légtechnikai rendszer a frisslevegő betápláláson túl a helyiség hőszükségletét is fedez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légfűtés funkciója alapján csoportosítv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izárólag légfűtéses rendszere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lapfűtés + kiegészítő légfűtéses rendszere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Légfűtés (alap) + kiegészítő fűtéses rendszerek létezne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Kialakítása alapjá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özponti légfűtés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Helyi légfűtés (pl: thermoventilátor) különböztethető me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1:35:42Z</dcterms:created>
  <dc:creator>macher gábor</dc:creator>
  <dc:description/>
  <dc:language>en-US</dc:language>
  <cp:lastModifiedBy>macher gábor</cp:lastModifiedBy>
  <dcterms:modified xsi:type="dcterms:W3CDTF">2006-04-03T17:32:44Z</dcterms:modified>
  <cp:revision>3</cp:revision>
  <dc:subject/>
  <dc:title>Légtechnika, klíma</dc:title>
</cp:coreProperties>
</file>